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57982-DC98-4F25-8101-83E89A94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1"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21BC-B007-4709-A64D-298753D1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83DB8-3010-41D1-BCC4-4F62FA57C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9"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FBE23-9A94-4A0A-8E48-F3C02C561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B4D69-3F4F-49C1-9759-4661C856A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5"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FA916-A989-46A8-A927-AD4EA42F5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7"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CDFC-6EFD-4D77-B722-84F1ADDAE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9"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8FF98-8A4E-4146-83C9-BB18A66A6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9E89E-C482-4594-896D-354422C54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DC421-EE01-49F7-BC5B-CB1A7E5C8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24093-5183-482A-9D55-CFE7DC310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0"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CAEE-C79D-46A6-93B5-29A867B53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8"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50F60-ACF8-445B-A641-2ECBD000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2"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F3179-E2D9-4A6D-9183-724C1A004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6"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E0B18-D207-45AC-979D-C26EC020E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8F8C9-5633-43D1-81C3-BEED0D283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84"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B7267-70CE-4E05-844C-4C3C4E6F8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2"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A668-5C5B-4F7A-B565-B3FA6418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4"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A004-F0B1-41D1-A67B-1D96C339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87F84-54FE-46B3-A9BE-B63642C2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8B10-370D-4DA6-84BF-13181EA73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33F0-4B7A-4FBC-A10F-6A56CB3FD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3"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CA3C-6F21-4522-B18E-EB33B30D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7"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F0D1-DB59-4F49-9335-ECE98E09B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F462-2050-4AEA-A50A-CFA43097741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7C47-AA55-44C7-9909-9420E00501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300" spc="-1" strike="noStrike">
                <a:solidFill>
                  <a:srgbClr val="ffffff"/>
                </a:solidFill>
                <a:latin typeface="Times New Roman"/>
              </a:rPr>
              <a:t>Frågesport</a:t>
            </a:r>
            <a:endParaRPr b="0" lang="en-US" sz="83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838080"/>
            <a:ext cx="6781680" cy="4896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9. Den fula ankungen, Kejsarens nya kläder, är kända barnböcker det sägs att Den fula ankungen är en självbiografi. Vad menas med en självbiografi? Och vem är dansken som har skrivit böckerna? (2)</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0. Vilka har skrivit böckerna om Sune och Bert? (4)</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1. Vad är skönlitteratur?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200" spc="-1" strike="noStrike">
                <a:solidFill>
                  <a:srgbClr val="ffffff"/>
                </a:solidFill>
                <a:latin typeface="Times New Roman"/>
              </a:rPr>
              <a:t>12. Nämn tre böcker som Laura Trenter har skrivit. (3)</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ffffff"/>
                </a:solidFill>
                <a:latin typeface="Times New Roman"/>
              </a:rPr>
              <a:t>13. Vem har skrivit böckerna om LasseMajas detektivbyrå? (2)</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4. Vad brukar Findus få att äta på sin födelsedag?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6200" spc="-1" strike="noStrike">
                <a:solidFill>
                  <a:srgbClr val="ffffff"/>
                </a:solidFill>
                <a:latin typeface="Times New Roman"/>
              </a:rPr>
              <a:t>15. Vad arbetade Laura Trenters föräldrar med? (2)</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6. Vad gör en illustratör?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838080"/>
            <a:ext cx="6781680" cy="39592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800" spc="-1" strike="noStrike">
                <a:solidFill>
                  <a:srgbClr val="ffffff"/>
                </a:solidFill>
                <a:latin typeface="Times New Roman"/>
              </a:rPr>
              <a:t>17. I boken och filmen Coraline träffar hon på sin ”andra” mamma och pappa. Vad var annorlunda med deras utseende? (1)</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838080"/>
            <a:ext cx="6781680" cy="36705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18. Vad är ett signum på en biblioteksbok?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8782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1. I vilken dal lever Snusmumriken, Lilla My och Snorkfröken?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837720"/>
            <a:ext cx="6781680" cy="4606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200" spc="-1" strike="noStrike">
                <a:solidFill>
                  <a:srgbClr val="ffffff"/>
                </a:solidFill>
                <a:latin typeface="Times New Roman"/>
              </a:rPr>
              <a:t>19. I Sherwoodskogen bor det en figur som stjäl från de rika och ger åt de fattiga. </a:t>
            </a:r>
            <a:br>
              <a:rPr sz="5200"/>
            </a:br>
            <a:r>
              <a:rPr b="0" lang="en-US" sz="5200" spc="-1" strike="noStrike">
                <a:solidFill>
                  <a:srgbClr val="ffffff"/>
                </a:solidFill>
                <a:latin typeface="Times New Roman"/>
              </a:rPr>
              <a:t>Vad heter han?</a:t>
            </a:r>
            <a:r>
              <a:rPr b="0" lang="en-US" sz="5600" spc="-1" strike="noStrike">
                <a:solidFill>
                  <a:srgbClr val="ffffff"/>
                </a:solidFill>
                <a:latin typeface="Times New Roman"/>
              </a:rPr>
              <a:t> (2)</a:t>
            </a:r>
            <a:br>
              <a:rPr sz="5600"/>
            </a:br>
            <a:endParaRPr b="0" lang="en-US" sz="5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837720"/>
            <a:ext cx="6781680" cy="3382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20. Hur många dagar får man låna en bok på biblioteket? (1)</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2. Vad samlar Snusmumriken på?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3. Vad heter Alfons Åbergs hemlige kompis som är osynlig? (1)</a:t>
            </a:r>
            <a:r>
              <a:rPr b="0" lang="en-US" sz="5600" spc="-1" strike="noStrike">
                <a:solidFill>
                  <a:srgbClr val="ffffff"/>
                </a:solidFill>
                <a:latin typeface="Times New Roman"/>
              </a:rPr>
              <a:t> </a:t>
            </a:r>
            <a:endParaRPr b="0" lang="en-US" sz="5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4. Vad heter Harry Potters bästa vänner? (4)</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5. Vem sa: ”Emil, vi får palt till middag. Jag ska äta arton stycken.”?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6. Vad vill Ida ha till middag i sången </a:t>
            </a:r>
            <a:br>
              <a:rPr sz="5400"/>
            </a:br>
            <a:r>
              <a:rPr b="0" lang="en-US" sz="5400" spc="-1" strike="noStrike">
                <a:solidFill>
                  <a:srgbClr val="ffffff"/>
                </a:solidFill>
                <a:latin typeface="Times New Roman"/>
              </a:rPr>
              <a:t>”Lille Katt”? (1)</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8080"/>
            <a:ext cx="6781680" cy="4896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7. Sveriges kanske mest kända författare heter, som du redan vet, Astrid Lindgren.</a:t>
            </a:r>
            <a:br>
              <a:rPr sz="4000"/>
            </a:br>
            <a:r>
              <a:rPr b="0" lang="en-US" sz="4000" spc="-1" strike="noStrike">
                <a:solidFill>
                  <a:srgbClr val="ffffff"/>
                </a:solidFill>
                <a:latin typeface="Times New Roman"/>
              </a:rPr>
              <a:t>Nämn fem av Astrid Lindgrens sagofigurer, personerna får inte komma från samma bok (till exempel Pippi, Tommy, Annika och herr Nilsson) (5)</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837720"/>
            <a:ext cx="6781680" cy="46069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En annan svensk kvinnlig författare växte upp i Värmland på en gård som heter Mårbacka. Några av hennes böcker är Nils Holgerssons underbara resa genom Sverige och Gösta Berglings saga. Denna författare har fått Nobelpriset i litteratur. Vad heter författaren? Ledtråd: Denna kvinna finns även avbildad på våra tjugolappar. Både för och efternamn krävs för att få rätt på denna frå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7:41:38Z</dcterms:created>
  <dc:creator>chrlar1</dc:creator>
  <dc:description/>
  <dc:language>en-US</dc:language>
  <cp:lastModifiedBy>chrlar1</cp:lastModifiedBy>
  <dcterms:modified xsi:type="dcterms:W3CDTF">2010-04-29T11:40:42Z</dcterms:modified>
  <cp:revision>3</cp:revision>
  <dc:subject/>
  <dc:title>Frågesport</dc:title>
</cp:coreProperties>
</file>